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843-10B1-4D57-8301-7E7EA8AB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737-9E3E-4A71-B46E-C276514E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FB3-9899-436F-872E-D2EFB1BD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8E4-550C-4F53-839C-C07C3D10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4131-8D13-4731-9387-A57D4F0A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470A-0A6E-4E9D-BA5E-9AA55BB3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8A77-4E6E-4320-8B5C-8C623C71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9B63-A1E8-4C79-8947-B5D683DE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6F96-497F-43BE-895D-D07B756B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B38F-06BE-492D-AF8E-394119B4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DFBC-1510-411A-95FA-5FC6F66E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F32-EA9D-4D20-B842-758B345E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AC90-69E3-4BCA-B195-F7441EE6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6318-69E2-4481-B49F-F689CB5D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FB83-39AE-4A5A-8872-91A5D7BD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822B-D9D4-433A-AB59-CE0C5863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F809-BB52-491D-863F-190216DE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76A8C-9E30-44DB-B6AF-769FBD37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CBD72-E9AD-4C8D-B2FF-1F06EEFA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921BE-147E-4FDE-BCE1-03B80CA2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96C21-F149-47EA-B594-5FD63FE0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8DFFB-778C-4F97-A0B2-E48D7EB1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95B-32B0-4107-B7F8-9405F475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C26A2-CC56-427E-A001-9653FCDD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DFB26-F6F8-4D79-BE01-A1862139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403F4-3417-4E3C-B12A-E9DBC9F8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0A211-490A-4625-BB72-E6527165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AFA0F-B652-422D-825F-2D14F057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4E522-6839-4E65-92A9-00C6BE8A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89DD5-7FF2-4051-AA1F-B36284DA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A02F0-EB35-45C0-96A8-2DA6A653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E6D6-9A7C-4171-81DB-315871E9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8DC8A-2F50-48D2-A3D2-F0B6275A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566-BB2B-428F-B4A8-E431B042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A09A7-515D-4E7D-9FD6-A0E9C514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EF2D-4790-420F-AE1D-C4FC3F9E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17DD0-65DF-4F6A-A952-23EDFD40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5BA93-01AF-4E16-8487-D7B47143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1ACD7-8069-48A6-BACC-EA742379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01AA8-5EF1-4D9C-A8BE-5C3E48D6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82438-CA56-4CAA-8E07-EC8E7E1F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6CAC5-0940-4E44-AA74-BE4813E8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DE52-9AFA-4D31-BF56-8CA36EAA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7ECF2-A55E-4454-A7D6-CC5BB518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673-02D7-4001-BFA9-842A92CA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A7500-59DD-4A7C-81A3-B8C4949D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B621E-8C21-4D66-851E-CB947BAB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28C8B-B557-44C8-B52A-23B19DE8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7937B-7B54-4041-AA61-2CA39269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93F4F-2C02-4F7C-A157-08FC70FC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29382-6706-431B-A9FD-DDEAD92A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BC40C-66FF-498C-8955-AAE46BB5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0487F-8E25-4A9D-91CF-8C71AF4F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F1D0D-466A-4D30-993B-1D095B44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5CCFB-FEFC-46C2-9D72-019F931B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98D-253C-4A1E-871D-BE38E39F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1D48C-2EB3-4679-AC7D-6ABD9D11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F1536-0C67-46F3-9F54-C762BAC7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0C658-C12C-4300-B95B-BC988331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50744-9CC2-4C97-B145-3979FE0F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1E5FC-4C55-4F22-90CA-3337C076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A8B735-DBAA-47F7-9F9A-B28C4C53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1FEC0-F997-4EE7-B1FA-1D3F3984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268C5-81F9-4075-BD52-22428648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328F0-1243-4196-A869-31BC6300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CD436-AA55-45F9-A877-A6323F8E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8AB-1D02-44C1-88F9-78592E8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67E48-A426-4FC3-B431-0209A10E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B0BDA-6317-4D0F-AFD4-C8BA8886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E3481-F640-4652-BD63-011E8921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DFE15-B025-4D08-8A5F-4266E687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8BDF2-9BFE-4F52-B63F-B44B260E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F584FF-80DA-49E9-B0F5-00DFBE96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9B1F7-D016-4E92-B13F-831F951E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5F46B0-E3B1-48CF-A05C-F25FFA2C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1E90A2-877B-4F8D-BD27-6CCC1B74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2C9ED-9863-4C9F-8623-3157D077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A2E-0C14-48A5-BF76-224BFAAE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F1AC2-FEA5-46C6-BC42-D4C4AA6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49C02-40B0-423A-A233-5369704B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6A6AE-3995-4FF3-B383-5C45BB2D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3A875-A2CD-420E-B7B4-2A6BA29F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A8660-1696-4A92-BFFB-D4D3971D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DBF-A9CB-44BA-82F9-D3ECF05D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18FB-747A-44ED-A45B-018A4F1A41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568B-0A84-4271-A986-4C43B37AB4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08C4-F8E2-4AC7-AC68-408145235F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D968-0DE9-4351-804B-761FDD5C30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A57-2993-481A-AA5E-2EEC7CEA9B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085B-F403-4496-A7F8-264BC9CC28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9DA-DD61-4043-B7A9-331BEFB2B2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Mount_Rushmore_National_Memori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hitehousetapes.net/clip/lyndon-johnson-gerald-ford-congratulations-and-reques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EXECUTIVE BRAN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  <a:ea typeface="ヒラギノ角ゴ Pro W3"/>
            </a:endParaRPr>
          </a:p>
        </p:txBody>
      </p:sp>
      <p:pic>
        <p:nvPicPr>
          <p:cNvPr id="353" name="Picture 5" descr="File:Mount Rushmore National Memori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124080"/>
            <a:ext cx="43466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5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do you think the office of the presidency has changed over tim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you think the president has more or less power now than he did in the past? Why or why no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you think the president is “closer to the people” more now or in the past? Why or why not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VARIED ROL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ommander in Chie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hief of St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iplo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hief Execu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Legisla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oral l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arty l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OMMANDER IN CHIEF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Limits: War Powers Act (1973): President must notify Congress within 48 hours of committing troops and troops must be removed after 60-90 days without congressional authoriza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bushname"/>
          <p:cNvPicPr/>
          <p:nvPr/>
        </p:nvPicPr>
        <p:blipFill>
          <a:blip r:embed="rId1"/>
          <a:stretch/>
        </p:blipFill>
        <p:spPr>
          <a:xfrm>
            <a:off x="3048120" y="4076640"/>
            <a:ext cx="29048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IEF OF ST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eremonial du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7" descr="50696857"/>
          <p:cNvPicPr/>
          <p:nvPr/>
        </p:nvPicPr>
        <p:blipFill>
          <a:blip r:embed="rId1"/>
          <a:stretch/>
        </p:blipFill>
        <p:spPr>
          <a:xfrm>
            <a:off x="2057400" y="2819520"/>
            <a:ext cx="5048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DIPLO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4" descr="reagan_and_gorbachev_hold_discussions"/>
          <p:cNvPicPr/>
          <p:nvPr/>
        </p:nvPicPr>
        <p:blipFill>
          <a:blip r:embed="rId1"/>
          <a:stretch/>
        </p:blipFill>
        <p:spPr>
          <a:xfrm>
            <a:off x="1981080" y="1905120"/>
            <a:ext cx="53341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IEF EXECUTIVE/LEGISLATOR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5119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ARTY LEADER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038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MORAL LEA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5" descr="michelle-and--malia-and-sasha-obama-on-stage-at-the-democratic-national-convention-2008"/>
          <p:cNvPicPr/>
          <p:nvPr/>
        </p:nvPicPr>
        <p:blipFill>
          <a:blip r:embed="rId1"/>
          <a:stretch/>
        </p:blipFill>
        <p:spPr>
          <a:xfrm>
            <a:off x="1828800" y="2133720"/>
            <a:ext cx="52959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6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de Obama’s presidency so far and justify the grad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do you think your political ideology might influence your perceptions of the president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METHOD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 your partner’s article and write a one-sentence summary at the bottom of the pag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 to the group that best demonstrates the role of the president found in your artic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 a group, fill in your section of the worksheet with examples of that role from Obama’s presidenc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ch group will present examples to the whole clas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do you remember from yesterday about the general demographic characteristics of presidents so fa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ny checks and balances relating to the presidency that you can rememb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ESTIONS FOR ARTI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What role(s) of the president are demonstrated in this article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What other branches of government are involved in this news story and how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What is your personal opinion on this issue? What questions does the article raise for you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s many of the formal (expressed in the Constitution) powers or roles of the presidency as you can (without looking at notes!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s many of the informal (implied) powers or roles of the presidency as you can (without looking at notes!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your opinion, which is the most important role or power of the president and why? In other words, what do you think should be the president’s main job or responsibility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ME MORE INFORMAL POW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privileg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agreemen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orde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uasion/using the med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CABINE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t in the Constitution, but has been around since Washington’s presidenc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ifteen departments, each headed by a secretary (or Attorney General, in the case of the Justice Department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BINET RESEARCH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partment of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ergy: Jacob, Katelyn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ducation: Maxine, Jessic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bor: Heather, Bryann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alth and Human Services: Shenna, Kelly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fense: Peter, Kriste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omeland Security: Casey, Bobby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te: Sam, Alex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ior: Cody, Bea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merce: Kiernan, Laure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ustice: Nate, Christine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XECUTIVE OFFICE OF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 House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ffice of Communications (Press Secretary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ffice of Management and Budg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ational Security Counci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ational Economic Counci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OFFICE OF MANAGEMENT AND BUDGET (OMB)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pares the national budget that the President proposes to Congress each ye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ial influence over how much departments can spe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NATIONAL SECURITY COUNCIL (NSC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reated by Truman in 1947 at the start of the Cold W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ade up of the President, Vice Pres., Secretary of State, Secretary of Defense, CIA, Joint Chiefs of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ESIDENTIAL PERSONALITY AND PERSUASIO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eddy Roosevelt: White House is a “bully pulpit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ny idea of what this means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INFLUENCING CONGR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housetapes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ea typeface="ヒラギノ角ゴ Pro W3"/>
                <a:hlinkClick r:id="rId1"/>
              </a:rPr>
              <a:t>http://whitehousetapes.net/clip/lyndon-johnson-gerald-ford-congratulations-and-requ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5" descr="lbj"/>
          <p:cNvPicPr/>
          <p:nvPr/>
        </p:nvPicPr>
        <p:blipFill>
          <a:blip r:embed="rId2"/>
          <a:stretch/>
        </p:blipFill>
        <p:spPr>
          <a:xfrm>
            <a:off x="2286000" y="3733920"/>
            <a:ext cx="48006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RANKING THE PRESIDENTS</a:t>
            </a:r>
            <a:br>
              <a:rPr sz="3600"/>
            </a:b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 (SCHLESINGER, JR. 1996 POLL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p 10 Be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) Lincol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) Washingt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3) FD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4) Jeffer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) Jack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6) Teddy Roosevelt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7) Wilso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8) Truma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9) Pol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0) Eisenhow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 Wor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) Warren G. Hard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) James Buchana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3) Andrew John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4) Nix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) Herbert Hoov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APPEALING DIRECTLY TO THE PEOP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n: FDR’s “Fireside chats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vening radio speech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w: Weekly addresses online, State of the Union addr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Rhetoric: The art of discou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speaker’s ability to persuade, inform, motivat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killful rhetoric: Charisma, emotion, logic/reason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ROLE OF 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Brainstorm: What is the medi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5" descr="huusxveugey80zgejggveg"/>
          <p:cNvPicPr/>
          <p:nvPr/>
        </p:nvPicPr>
        <p:blipFill>
          <a:blip r:embed="rId1"/>
          <a:stretch/>
        </p:blipFill>
        <p:spPr>
          <a:xfrm>
            <a:off x="990720" y="1676520"/>
            <a:ext cx="70880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MEDIA AND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w does the media shape public opinion of the preside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 craftiest and most dishonest politician that ever disgraced an [American political] office.”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llinois State Regis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ho is this quote about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 House Press Corps: Group of reporters that cover the presidency and news briefings by the White House Press Secretary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BIAS IN 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at is bias? What is sla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041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is the media/press/public opinion an informal “limit” on presidential power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can the president use the media to his advantage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MITS ON PRESIDENTIAL POW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mal and inform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ING THE PRESIDENT: THE BASICS OF THE ELECTORAL COLLE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n insufferably long, drawn-out, and confusing process”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on’t Know Much About History—Is the Electoral College a Party School?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t a direct 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nstead of voting for candidate, voting for a slate of electors who have pledged to vote for a particular candidat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ORAL COLLE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ach state has electors equal to the number of its senators and representative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tal: 538, appointed by their state political part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have to vote for winner with most popular votes (faithless electors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eed 270 electoral votes to win (majorit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n most states, “winner takes all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ndidate with the majority or plurality of votes gets all of the electoral votes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ORAL COLLE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lections decided by the Hous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00: Jefferson and Bur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ohn Quincy Adams and Jacks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on popular vote but lost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24: Adams, Jacks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76: Hayes, Tild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88: Harrison, Clevelan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000: Bush, Gore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MORE THAN JUST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13480" cy="74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2000 ELE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Gore won the popular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re: 50,999,897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: 50,456,00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Bush won the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re: 266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: 27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w? Florid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 won by 537 votes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O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 win presidency, need broad regional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t dominated by cities or populous stat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omotes political stability (two parti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ederal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big one: Has worked for over 220 yea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ON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inner of popular vote may not win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aithless electors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Votes not distributed even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ifficult for third par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ver-focus on “swing” stat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ROAD TO THE WHITE HOUS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0-11 months: Announcement of candidacy, building organization, obtaining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1-14 months: Early primaries (Feb-March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5-18 months: Late primari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0-24 months: Nominating convention, national campaig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lection Day: Tues. after the first Monday in November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IMARY CAMPAIG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aucuses: Small meetings to determine which candidate to endo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important: Iow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imaries: States vote and the candidate with the most votes wins delegates at their party’s nominating conven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important: New Hampshir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INAUGURA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Januar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ath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I do solemnly swear (or affirm) that I will faithfully execute the office of President of the United States, and will to the best of my ability, preserve, protect and defend the Constitution of the United States."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ACCORDING TO ARTICLE II OF THE CONSTITUTIO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ust be at least 35 years old (Kennedy was 43 when elected, Teddy Roosevelt was 42 when he took offic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natural-born citiz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resident of the U.S. for at least 14 yea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owers: make treaties, appointmen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tate of the Union” report to joint session of Congr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ommand of military, can grant pard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erms: Limited to two four-year terms by the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Amend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UNOFFICIAL “REQUIREMENTS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at have most presidents been lik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UNOFFICIAL “REQUIREMENTS”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ut of 43 president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3 were m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 were wh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3 were (at least nominally) Christian (42 Protestants, 1 Catholic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2 had prior military experienc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5 were lawyers before entering politic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4 were former V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5 were former Senato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9 were former representa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1 were former govern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ECKS AND BALANC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 appoints justices, ambassadors, and cabinet secretaries and Senate confirms th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enate approves treat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use can impeach President, Senate convi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drew Johnson, Clint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use selects President if no majority of electoral vo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SUCCESS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…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 most insignificant office that ever the invention of man contrived or his imagination conceived.”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---John Adams, on the Vice Presidency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rder: Vice President, Speaker of the House, President pro tempore (Senate), Secretary of State, other cabinet secretaries, et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Amendment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 can nominate the VP if there is a vacancy and he or she is confirmed by a majority vote in Congres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VP can serve as “acting President” if President is unab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8:34:56Z</dcterms:created>
  <dc:creator>WHPS</dc:creator>
  <dc:description/>
  <dc:language>en-US</dc:language>
  <cp:lastModifiedBy>Allison Hopkins</cp:lastModifiedBy>
  <cp:lastPrinted>2010-10-19T20:54:59Z</cp:lastPrinted>
  <dcterms:modified xsi:type="dcterms:W3CDTF">2012-04-04T23:22:06Z</dcterms:modified>
  <cp:revision>178</cp:revision>
  <dc:subject/>
  <dc:title>The Executive Branch</dc:title>
</cp:coreProperties>
</file>